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M400600_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M400600_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M400600_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M400600_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M400600_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M400600_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SzPct val="80000"/>
              <a:buFont typeface="M400600_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M400600_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7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cvologo_f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032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607880" y="6613560"/>
            <a:ext cx="16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3366"/>
                </a:solidFill>
                <a:latin typeface="M400600_"/>
              </a:rPr>
              <a:t>2002 – Rolf Neuendorf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5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M400600_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4290"/>
                </a:solidFill>
                <a:latin typeface="M400600_"/>
              </a:rPr>
              <a:t>Click to edit the outline text format</a:t>
            </a:r>
            <a:endParaRPr b="0" lang="en-US" sz="2800" spc="-1" strike="noStrike">
              <a:solidFill>
                <a:srgbClr val="024290"/>
              </a:solidFill>
              <a:latin typeface="M400600_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M400600_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lvl="2" marL="914400" algn="ctr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M400600_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M400600_"/>
            </a:endParaRPr>
          </a:p>
          <a:p>
            <a:pPr lvl="3" marL="1371600" algn="ctr">
              <a:spcBef>
                <a:spcPts val="451"/>
              </a:spcBef>
              <a:buClr>
                <a:srgbClr val="080808"/>
              </a:buClr>
              <a:buSzPct val="80000"/>
              <a:buFont typeface="M400600_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400600_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M400600_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400600_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M400600_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400600_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M400600_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M400600_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Anwendungen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91" name=""/>
          <p:cNvSpPr/>
          <p:nvPr/>
        </p:nvSpPr>
        <p:spPr>
          <a:xfrm>
            <a:off x="5178600" y="52578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M400600_"/>
              </a:rPr>
              <a:t>Dr. Rolf Neuendo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" name="cvochemie" descr=""/>
          <p:cNvPicPr/>
          <p:nvPr/>
        </p:nvPicPr>
        <p:blipFill>
          <a:blip r:embed="rId1"/>
          <a:stretch/>
        </p:blipFill>
        <p:spPr>
          <a:xfrm>
            <a:off x="5638680" y="5715000"/>
            <a:ext cx="1905120" cy="716040"/>
          </a:xfrm>
          <a:prstGeom prst="rect">
            <a:avLst/>
          </a:prstGeom>
          <a:ln w="0">
            <a:noFill/>
          </a:ln>
        </p:spPr>
      </p:pic>
      <p:pic>
        <p:nvPicPr>
          <p:cNvPr id="93" name="LASERBG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9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Inhalt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Beispiele für Anwendungen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Spektroskopie (Wissenschaft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Lithographie (Technik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Lasermaterialbearbeitung (Technik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Chirurgie (Medizin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Waffensysteme (Militär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Lithographie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M400600_"/>
              </a:rPr>
              <a:t>Belichtung von Ätzmasken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M400600_"/>
              </a:rPr>
              <a:t>heutiger Standard: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M400600_"/>
              </a:rPr>
              <a:t>249 nm Technologie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6b134"/>
                </a:solidFill>
                <a:latin typeface="M400600_"/>
              </a:rPr>
              <a:t>Excimer: KrF*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M400600_"/>
              </a:rPr>
              <a:t>nächster Standard (2005): 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M400600_"/>
              </a:rPr>
              <a:t>193 nm Technologie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6b134"/>
                </a:solidFill>
                <a:latin typeface="M400600_"/>
              </a:rPr>
              <a:t>Excimer: ArF*</a:t>
            </a:r>
            <a:endParaRPr b="0" lang="en-US" sz="24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98" name="stepper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86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Materialbearbeitung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57800" y="23623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Schneiden, Bohren, Fräsen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Schweissen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Auftrag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früher: </a:t>
            </a: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CO</a:t>
            </a:r>
            <a:r>
              <a:rPr b="0" lang="de-DE" sz="2800" spc="-1" strike="noStrike" baseline="-25000">
                <a:solidFill>
                  <a:srgbClr val="46b134"/>
                </a:solidFill>
                <a:latin typeface="M400600_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heute:</a:t>
            </a: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Nd:YAG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(Systeme bis 10 kW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101" name="DECOUPE_LASER" descr=""/>
          <p:cNvPicPr/>
          <p:nvPr/>
        </p:nvPicPr>
        <p:blipFill>
          <a:blip r:embed="rId1"/>
          <a:stretch/>
        </p:blipFill>
        <p:spPr>
          <a:xfrm>
            <a:off x="762120" y="2703600"/>
            <a:ext cx="42670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Chirurgie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33560" y="23619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speziell: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Augenchirurgie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(grauer Star)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Nd:YAG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Diodenlaser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104" name="surgery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87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Waffensysteme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7240" y="23623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Entfernungsmessung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-3394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Leitsysteme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Festkörperlaser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M400600_"/>
              </a:rPr>
              <a:t>spez. Diodenlaser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Nahes / mittleres Infrarot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107" name="AN-TVQ-2%20_DFST9201655_JPG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86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Vermessung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Nivelliergeräte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"Wasserwaage"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110" name="laser_verm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0556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laser_wasserw" descr=""/>
          <p:cNvPicPr/>
          <p:nvPr/>
        </p:nvPicPr>
        <p:blipFill>
          <a:blip r:embed="rId2"/>
          <a:stretch/>
        </p:blipFill>
        <p:spPr>
          <a:xfrm>
            <a:off x="762120" y="4862520"/>
            <a:ext cx="3200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M400600_"/>
              </a:rPr>
              <a:t>Logistik</a:t>
            </a:r>
            <a:endParaRPr b="1" lang="en-US" sz="3600" spc="-1" strike="noStrike">
              <a:solidFill>
                <a:srgbClr val="080808"/>
              </a:solidFill>
              <a:latin typeface="M400600_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Kassensysteme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Lagersysteme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Sendungsverfolgung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M400600_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M400600_"/>
            </a:endParaRPr>
          </a:p>
        </p:txBody>
      </p:sp>
      <p:pic>
        <p:nvPicPr>
          <p:cNvPr id="114" name="barcode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289584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kasse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00:28Z</dcterms:created>
  <dc:creator>Rolf</dc:creator>
  <dc:description/>
  <dc:language>en-US</dc:language>
  <cp:lastModifiedBy>rolf</cp:lastModifiedBy>
  <dcterms:modified xsi:type="dcterms:W3CDTF">2004-05-10T05:56:24Z</dcterms:modified>
  <cp:revision>69</cp:revision>
  <dc:subject/>
  <dc:title>Grundlagen der  LASER-Operation</dc:title>
</cp:coreProperties>
</file>